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F5F2-CAC0-4DF8-B262-DCA9BD024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E659-A758-4E32-909A-06D7F00A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4E7C-7225-440F-A65E-56F56F0B4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2EA3-EF04-410E-AF9E-BAF09F478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D312-5694-4AA4-95A4-D7C48B51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1CC0-BE37-4526-990C-339BCE24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0A4A-96B2-4973-B926-E031B2BD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C744-EAA1-4579-B4AE-D157FEF8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B571-B70D-4980-AF2B-91312543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E958-23E4-4EB2-B7E2-BA24EA78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80D8-AAB4-42A0-8F86-AB37A2A7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B266-3A0E-491A-947B-03E98D46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18D0-D247-4AB1-9D2B-8432113097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单片机分会的</a:t>
            </a:r>
            <a:br>
              <a:rPr sz="6600"/>
            </a:b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发展史简介</a:t>
            </a:r>
            <a:br>
              <a:rPr sz="6600"/>
            </a:br>
            <a:br>
              <a:rPr sz="6600"/>
            </a:b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"/>
              </a:rPr>
              <a:t>余永权</a:t>
            </a:r>
            <a:br>
              <a:rPr sz="54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级教授  博士生导师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广东省人民政府参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由北京航空航天大学出版社出版《世界流行单片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技术手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日本系列》（作者：余永权、何小敏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由电子工业出版社出版《单片机在控制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的应用》（作者：余永权、汪明慧、黄英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由北京航空航天大学出版社出版《世界流行单片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技术手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欧亚系列》（作者：余永权、汪明慧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由北京航空航天大学出版社出版《世界流行单片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技术手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美国系列》（作者：余永权、黄英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广东单片机事业发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．广东单片机科研及应用的发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98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 广东工业大学 当时已研究出用于锅炉测氧的单片机智能测氧仪，后来获国家科委国家经委优秀产品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98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 全国首届单片机学术交流会在上海召开，广东省只有两篇论文在会上发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一篇是“单片机应用中的一种数据压缩技术”（作者，余永权，全文发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二篇是“单片机在频率计中的应用”（作者：广州通信研究所，和丽珍，摘要发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98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 第二届全国单片机学术交流会在南京召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大会发布了广东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种研究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广东工业大学：单片机控制的可控硅励磁调节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汕头开明电子公司：单片机高炉铁水温度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深圳天马电子公司：点阵式汉字液晶显示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湛江水产学院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P-80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调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CS-4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单片机的模拟程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珠江水利委员会科研所：单片机控制的多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/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．广东单片机科研及应用的发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98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年底 国际单片微机技术交流会在南京召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会议发布了广东的三个单片机研究成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广东工业大学：单片机构成的自识别自校正调节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广州航运局：无线数传水道测量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广州航运局：单片机海道检测智能接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这期间，广东工业大学首创的模糊控制产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模糊电饭煲研制成功。并开始向珠江三角洲推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以单片机为心脏的智能产品进入产业化阶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．广东单片机科研及应用的发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99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开始，全国单片机学会每二年召开一次全国学术交流会，参会文章达数百篇。广东省的论文大量上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99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，由广东省计算机学会单片机学会承办的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9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全国单片机学术交流会”在广州广东工业大学举办，参加会议的有来自全国的数百科技人员，参加会议达数千人。会议开了三天；并在广东工业大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号楼举办了展示会，参加展示的外国公司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ntel,Zilog,NS,Motoral,NEC,Microchi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近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家，另外还有国内的单片机开发公司近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家，会议收到数百篇论文，从中选出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3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篇形成论文集，论文集分上下册，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页，反映了单片机开发，应用的热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．广东单片机科研及应用的发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3928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99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otorol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公司在中国建立第一个与高校合作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CU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研究中心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GDUT-Motorala MCU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开发应用研究中心在广东工业大学成立。余永权教授被聘为该研究中心的主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99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-20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间，广东省计算机学会单片机分会每年召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-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次会议，特别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995-199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期间，举办了大量的“单片机模糊控制培训班”，为广东省家电行业培养了大批技术人员。广东工业大学还研制出各种首创的产品；模糊电水箱，模糊洗衣机，模糊电磁炉，模糊电烤箱，模糊蒸炖煲等，产值达数十亿元，利润近十亿元，为广东省广州市的经济建设作出了明显的贡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余永权教授被广州市政府评为技术创新有功人员，并多次获广州市科技进步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．广东单片机科研及应用的发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在北京中国国际科技会展中心举行嵌入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系统及单片机国际交流会。当时，有国外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司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nte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otoral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数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菲利普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MD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先进数字芯片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LA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RADLAN,D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等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家公司，参加人员达数千人。余永权教授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邀请在第一报告厅作“智能家居网络”的学术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．广东单片机科研及应用的发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20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间，广东省计算机学会单片机分会每年除了召开学术会议之外，还根据形势发展，把单片机与网络结合，单片机与系统结合；特别是近几年，强调把单片机作为互联网与人的重要交汇接口，与自然过程的交汇接口，在构建物联网上进行一系列的努力。数据采集，多数据融合，智能家居网络等研究已和网络相结合，特别在电力线组成的家居网络上，作了长期有效的研究，推广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Lonworks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技术，进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R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芯片开发等都取得了众多成果。由于成果较多，无法一一罗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．广东单片机科研及应用的发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广东省计算机学会单片机分会是一个有活力，有广泛社会基础的学会，让我们共同努力，把学会办成一个长盛的学术机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．广东单片机科研及应用的发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谢谢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片机与嵌入式系统的诞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97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 美国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公司首先研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MS10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系列单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片机；同年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nte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推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00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97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 美国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nte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公司推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位单片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804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98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nte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推出单片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805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98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nte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推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位单片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809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推出单片机的同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nte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公司提出了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Embeded Chip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概念，后来发展到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Embeded System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广东单片机事业发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97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 广东工业大学（原广东工学院）在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省最早开展了单片机的应用研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97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 广东工业大学开始在计算机课程中讲授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片机，并介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804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等单片机的应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见教材：微型计算机组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余永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197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98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~198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，广东工业大学开展了单片机在控制、仪器等领域的应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98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 由广东科技出版社出版了“微处理机的应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”（作者：余永权，李世思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98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 广东省计算机学会成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98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 全国首届单片机学术交流会在上海举行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会议期间，由复旦大学陈章龙，北京理工大学曹民杨，北京航空航天大学何立民，广东工业大学余永权，东南大学孙育才，天津纺织工学院付景义，能源部南京自动化所梁合庆等共同商议组织全国单片微机学会，隶属于中国计算机学会微机专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广东单片机事业发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98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全国单片微机学会广东分会成立，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事长为余永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98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全国单片微机学会广东分会，并入广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东省计算机学会取名广东省计算机学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片机分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98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 第二届全国单片机学术交流会在南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京召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广东单片机事业发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98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国际单片微机学术交流会在南京召开。会议期间，全国单片微机学会召开第二届理事会，成立了组织、学术及外联委员会。组织委员会主任陈章龙，副主任孙育才，学术委员会梁台庆，副主任：何立民。外联委员会主任曹名杨，副主任余永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广东单片机事业发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 全国单片微机学会组织出版了国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一本单片机手册《实用单片机大全》，由黑龙江科技出版社出版，全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9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万字，介绍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S-48,MCS-51,MCS-96, RUP1-44, MC6801,MC6805,Z8, UPD78, TMS3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系列的单片机。其中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EC MPD7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系列单片机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万字）由余永权、曾碧编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广东单片机事业发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99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由北京航空航天大学出版社出版《单片机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系统的功率接口技术》（作者：余永权，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李小青，陈林康），并被评为“最畅销科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书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99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由广东省等教育出版社出版《单片微型机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理及开发应用》（作者：余永权）；由电子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工业出版社出版《单片机家用电器智能化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术》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字）（作者：余永权）；由北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航空航天大学出版社出版《单片机模糊逻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控制》（作者：余永权、曾碧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广东单片机事业发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99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 由北京航空航天大学出版社出版《单片机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糊逻辑开发软件》（作者：余永权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99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 由电子工业出版社出版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单片机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理及应用》（作者：余永权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由北京航空航天大学出版社出版《廉价单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机原理及应用》（作者：余永权、林伟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由北京航空航天大学出版社出版《模糊控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与模糊家用电器》（作者：余永权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广东单片机事业发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4T06:11:32Z</dcterms:created>
  <dc:creator>MC SYSTEM</dc:creator>
  <dc:description/>
  <dc:language>en-US</dc:language>
  <cp:lastModifiedBy>y</cp:lastModifiedBy>
  <dcterms:modified xsi:type="dcterms:W3CDTF">2012-01-06T13:42:40Z</dcterms:modified>
  <cp:revision>17</cp:revision>
  <dc:subject/>
  <dc:title>单片机分会的发展史简介 </dc:title>
</cp:coreProperties>
</file>