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9E1-B8DE-4B8B-A34B-C1F3816F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89D-CAF1-4E8F-821C-02DEA7FD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D77-B0EB-48C1-A4B3-E02888FD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9F2-5AEB-4FC0-B91E-1A7D797C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8AA-707D-43A8-AEED-E86B3999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128-167E-422B-B25E-277EFD9A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7B2-5EA4-4024-92C0-62EF7C0F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2E2-B691-40CB-ABB4-6FC2F07D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1E9-25A2-4DB1-A73E-77691549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E73-C6B3-41D8-AEE0-9EE1241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FD2-3D90-435C-BE97-B23D024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33E-3381-46DF-92BC-E8AF024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7FD8-EEAA-493D-974B-8A1CEA65A0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单片机、嵌入式系统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现状和发展趋势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余永权</a:t>
            </a:r>
            <a:br>
              <a:rPr sz="6000"/>
            </a:br>
            <a:br>
              <a:rPr sz="60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级教授  博士生导师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东省人民政府参事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valo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valo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线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lter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设计，用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P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ystem on Programmable Chi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的总线。是连接片上处理器及其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P (Intellectual Property Kernel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识产权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的一种简单总线协议。规定连接的端口及通信时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总线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的操作系统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Embedded Lin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inn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的嵌入式版本，其它版本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µClinux, RTLinux, Embedded Debi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N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加拿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QNX Software Systems LT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的，其特点是针对嵌入式系统而设计的，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性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优异。缺点是不开放源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µC/OS-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是专为嵌入式应用而设计的操作系统。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良好的嵌入式特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x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ind Riv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产品，是专门为嵌入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C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计的高模块化，高性能实时操作系统。其内部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个独立模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SEK/V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是一个为车辆控制处理器设计的通过事件驱动的实时操作系统，欧盟的汽车规定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SEK/VD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标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的操作系统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谢谢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嵌入式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嵌入式系统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最早出现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司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7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关于单片机的说明书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我国，近年来的定义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专用计算机系统嵌入到应用设备系统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国外嵌入式系统定义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mbedded systems can be defined an information processing systems embedded into enclosing products such as cars, telecommunication or fabrication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Peter Marv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systems a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systems that are embed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a larger product and that are norm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directly visible to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mmon characteristics of embedded systems ar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bedded systems are connected to the physical environment through sensors collecting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bedded systems have to be depend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bedded systems have to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bedded systems do not use keyboards ,mice and large computer monitors for their user-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ny embedded systems must meet real-tim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mbedded systems are reactiv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的概念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嵌入式系统早期是指采用单片机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icrocontroller, angle-chip Microcomputer, D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嵌入式系统是指可以嵌入设备中的专用计算机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icrocomputer, Microprocessor, PGATE, Bit-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嵌入式系统是互联网的触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据采集，状态判别，安全防护，信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的芯片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通用型单片机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通信专用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ransputer →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数字信息处理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4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控制专用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神经网络芯片，变频专用芯片，语音专用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，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总线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MBA(Advanced Microcontroller Bus Archit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总线的特点：独立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C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制造工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有三组总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HB(Advanced High-Performance B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SB(Advanced System B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PB(Advanced Perpheral B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种总线主要用于嵌入式片上的系统设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N(Controller Area Network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由德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ach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出，目前国际上应用最广泛现场总线，是汽车电子控制网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形成两个标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O1189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高速）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O11519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低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嵌入式系统总线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0:09:21Z</dcterms:created>
  <dc:creator>MC SYSTEM</dc:creator>
  <dc:description/>
  <dc:language>en-US</dc:language>
  <cp:lastModifiedBy>IE361.COM</cp:lastModifiedBy>
  <dcterms:modified xsi:type="dcterms:W3CDTF">2012-01-09T08:16:19Z</dcterms:modified>
  <cp:revision>11</cp:revision>
  <dc:subject/>
  <dc:title>单片机、嵌入式系统的现状和发展趋势</dc:title>
</cp:coreProperties>
</file>