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.png" ContentType="image/png"/>
  <Override PartName="/ppt/media/image10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159-8687-4625-A0C3-468C196DF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02CE-AA68-43A9-B892-1CF76B37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9208-E8A8-4E6B-89BC-2EFBED3D3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7E7-734C-4535-BA49-95287C10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4DFF-3137-49CD-AAEE-53986CD9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FF83-36B4-41A0-B56A-21C6D123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CF36-00CF-4ED2-8C40-546A04F3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8ED9-08BB-4AD6-85FE-DD8C27F5D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917E-7C5A-4DD5-928E-E0374ED6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2FC1-48A5-47FC-A26E-6C4017E9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7F09-782C-4C2A-9DB2-7D048476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D49-E301-4005-9937-FA47C8A6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0047C-8A12-439D-B748-D7732B1F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7DF4-C3DE-4E70-B168-B9ADD418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8CD8-EDC6-4C1A-835D-84FA8C18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FBF0-656C-4EAC-9C77-7D6081A9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4BB0-31EB-448A-B673-F6B024D76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C02DC-D6DD-4A3C-B6F7-DBE62A09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AA62D-42F9-4064-95DA-42C5D024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63B02-B014-439D-9D64-0B819920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9C40E-58F8-4840-9D4C-912DB1F5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E609F-5ABE-4B8E-B314-55EE86D6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C15-83F2-439A-B3A1-A7B160AC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15BE9-B4F1-4501-9DE1-1586302F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37BAA-D282-456D-B5CA-EB83DED2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3353E-D48E-4531-B732-762BC86F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7297-7069-4AAE-B22C-8F58B1FB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7518A-C3E2-4927-AB4A-79370B47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AFE7C-124E-427A-A87E-0AD4B2619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F9804-E9B6-426F-A14A-A498A60A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ACB-7AD0-46E3-A91F-E3B8DBE2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0E8A-EE35-4763-8597-3786979E7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02E9-C11F-4A77-9E98-BF162368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C4A-103A-4847-A34B-3D0DD640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40A0-F9A1-407B-9FE7-AC08597C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17D-800F-4E5B-9666-258A4DA0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0480" cy="79200"/>
            <a:chOff x="0" y="0"/>
            <a:chExt cx="9150480" cy="79200"/>
          </a:xfrm>
        </p:grpSpPr>
        <p:pic>
          <p:nvPicPr>
            <p:cNvPr id="1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504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4"/>
            <p:cNvSpPr/>
            <p:nvPr/>
          </p:nvSpPr>
          <p:spPr>
            <a:xfrm>
              <a:off x="6120" y="5760"/>
              <a:ext cx="9137880" cy="6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0" y="36360"/>
            <a:ext cx="4578480" cy="79200"/>
            <a:chOff x="0" y="36360"/>
            <a:chExt cx="4578480" cy="79200"/>
          </a:xfrm>
        </p:grpSpPr>
        <p:pic>
          <p:nvPicPr>
            <p:cNvPr id="4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36360"/>
              <a:ext cx="45784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Text Box 7"/>
            <p:cNvSpPr/>
            <p:nvPr/>
          </p:nvSpPr>
          <p:spPr>
            <a:xfrm>
              <a:off x="6120" y="41040"/>
              <a:ext cx="45658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7"/>
          <p:cNvSpPr/>
          <p:nvPr/>
        </p:nvSpPr>
        <p:spPr>
          <a:xfrm>
            <a:off x="500040" y="1285920"/>
            <a:ext cx="6697800" cy="0"/>
          </a:xfrm>
          <a:prstGeom prst="line">
            <a:avLst/>
          </a:prstGeom>
          <a:ln w="38160">
            <a:solidFill>
              <a:srgbClr val="00ae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dodi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50480" cy="79200"/>
            <a:chOff x="0" y="0"/>
            <a:chExt cx="9150480" cy="79200"/>
          </a:xfrm>
        </p:grpSpPr>
        <p:pic>
          <p:nvPicPr>
            <p:cNvPr id="47" name="矩形 9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504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6120" y="5760"/>
              <a:ext cx="9137880" cy="6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0" y="36360"/>
            <a:ext cx="4578480" cy="79200"/>
            <a:chOff x="0" y="36360"/>
            <a:chExt cx="4578480" cy="79200"/>
          </a:xfrm>
        </p:grpSpPr>
        <p:pic>
          <p:nvPicPr>
            <p:cNvPr id="50" name="矩形 10" descr=""/>
            <p:cNvPicPr/>
            <p:nvPr/>
          </p:nvPicPr>
          <p:blipFill>
            <a:blip r:embed="rId4"/>
            <a:stretch/>
          </p:blipFill>
          <p:spPr>
            <a:xfrm>
              <a:off x="0" y="36360"/>
              <a:ext cx="4578480" cy="7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7"/>
            <p:cNvSpPr/>
            <p:nvPr/>
          </p:nvSpPr>
          <p:spPr>
            <a:xfrm>
              <a:off x="6120" y="41040"/>
              <a:ext cx="45658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Line 7"/>
          <p:cNvSpPr/>
          <p:nvPr/>
        </p:nvSpPr>
        <p:spPr>
          <a:xfrm>
            <a:off x="500040" y="1285920"/>
            <a:ext cx="6697800" cy="0"/>
          </a:xfrm>
          <a:prstGeom prst="line">
            <a:avLst/>
          </a:prstGeom>
          <a:ln w="38160">
            <a:solidFill>
              <a:srgbClr val="00ae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dodi.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36"/>
                </a:solidFill>
                <a:latin typeface="Maiandra GD"/>
              </a:rPr>
              <a:t>Click to edit the title text format</a:t>
            </a:r>
            <a:endParaRPr b="0" lang="en-US" sz="4400" spc="-1" strike="noStrike">
              <a:solidFill>
                <a:srgbClr val="001b36"/>
              </a:solidFill>
              <a:latin typeface="Maiandra G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477ab1"/>
              </a:buClr>
              <a:buSzPct val="5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00"/>
              </a:spcBef>
              <a:buClr>
                <a:srgbClr val="51848e"/>
              </a:buClr>
              <a:buSzPct val="5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601"/>
              </a:spcBef>
              <a:buClr>
                <a:srgbClr val="7b9b57"/>
              </a:buClr>
              <a:buSzPct val="60000"/>
              <a:buFont typeface="Wingdings 2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499"/>
              </a:spcBef>
              <a:buClr>
                <a:srgbClr val="8b7396"/>
              </a:buClr>
              <a:buSzPct val="45000"/>
              <a:buFont typeface="Wingdings 2" charset="2"/>
              <a:buChar char="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499"/>
              </a:spcBef>
              <a:buClr>
                <a:srgbClr val="e89a53"/>
              </a:buClr>
              <a:buFont typeface="Wingdings 2" charset="2"/>
              <a:buChar char="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 2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ppt"/>
          <p:cNvPicPr/>
          <p:nvPr/>
        </p:nvPicPr>
        <p:blipFill>
          <a:blip r:embed="rId2"/>
          <a:stretch/>
        </p:blipFill>
        <p:spPr>
          <a:xfrm>
            <a:off x="-12600" y="-3240"/>
            <a:ext cx="9156600" cy="6888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5A4C-028A-4141-B118-BF84784283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a"/>
          <p:cNvPicPr/>
          <p:nvPr/>
        </p:nvPicPr>
        <p:blipFill>
          <a:blip r:embed="rId1"/>
          <a:stretch/>
        </p:blipFill>
        <p:spPr>
          <a:xfrm>
            <a:off x="-12600" y="-19080"/>
            <a:ext cx="9120240" cy="68500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3419640" y="5229360"/>
            <a:ext cx="645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广州粤嵌通信科技股份有限公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Box 2"/>
          <p:cNvSpPr/>
          <p:nvPr/>
        </p:nvSpPr>
        <p:spPr>
          <a:xfrm>
            <a:off x="823320" y="714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Arial"/>
                <a:ea typeface="华文中宋"/>
              </a:rPr>
              <a:t>粤嵌教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55640" y="1886040"/>
            <a:ext cx="5040360" cy="2135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828720" y="4508640"/>
            <a:ext cx="5113440" cy="19555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"/>
          <p:cNvSpPr/>
          <p:nvPr/>
        </p:nvSpPr>
        <p:spPr>
          <a:xfrm>
            <a:off x="5862240" y="357336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Arial"/>
                <a:ea typeface="华文中宋"/>
              </a:rPr>
              <a:t>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5862240" y="5950080"/>
            <a:ext cx="10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Arial"/>
                <a:ea typeface="华文中宋"/>
              </a:rPr>
              <a:t>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1066320" y="1413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合作企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010880" y="4149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合作学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2"/>
          <p:cNvSpPr/>
          <p:nvPr/>
        </p:nvSpPr>
        <p:spPr>
          <a:xfrm>
            <a:off x="684360" y="1658880"/>
            <a:ext cx="7459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0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成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拥有一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人医疗产品专业研发团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中山大学第三附属医院技术合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承担广东省重大科技专项项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823320" y="714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Arial"/>
                <a:ea typeface="华文中宋"/>
              </a:rPr>
              <a:t>粤嵌医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9680" y="571320"/>
            <a:ext cx="7342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d0d0d"/>
                </a:solidFill>
                <a:latin typeface="Arial"/>
                <a:ea typeface="华文中宋"/>
              </a:rPr>
              <a:t>医疗设备产品系列</a:t>
            </a:r>
            <a:endParaRPr b="0" lang="en-US" sz="2400" spc="-1" strike="noStrike">
              <a:solidFill>
                <a:srgbClr val="001b36"/>
              </a:solidFill>
              <a:latin typeface="Maiandra GD"/>
            </a:endParaRPr>
          </a:p>
        </p:txBody>
      </p:sp>
      <p:pic>
        <p:nvPicPr>
          <p:cNvPr id="178" name="Picture 3" descr="T2Ko0vXhRaXXXXXXXX_!!39055992"/>
          <p:cNvPicPr/>
          <p:nvPr/>
        </p:nvPicPr>
        <p:blipFill>
          <a:blip r:embed="rId2"/>
          <a:stretch/>
        </p:blipFill>
        <p:spPr>
          <a:xfrm>
            <a:off x="571680" y="1914480"/>
            <a:ext cx="4228920" cy="31719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609480" y="533412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66"/>
                </a:solidFill>
                <a:latin typeface="Arial"/>
              </a:rPr>
              <a:t>中山三院医疗信息化系统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T2uE8vXotaXXXXXXXX_!!39055992"/>
          <p:cNvPicPr/>
          <p:nvPr/>
        </p:nvPicPr>
        <p:blipFill>
          <a:blip r:embed="rId3"/>
          <a:srcRect l="0" t="36056" r="0" b="0"/>
          <a:stretch/>
        </p:blipFill>
        <p:spPr>
          <a:xfrm>
            <a:off x="4724280" y="1447920"/>
            <a:ext cx="4210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2"/>
          <p:cNvSpPr/>
          <p:nvPr/>
        </p:nvSpPr>
        <p:spPr>
          <a:xfrm>
            <a:off x="755640" y="1413000"/>
            <a:ext cx="70722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年成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与希力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华宇等动漫游戏企业进行技术合作，共同推出动漫游戏产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C:\Documents and Settings\Administrator\桌面\新建文件夹\4.jpg"/>
          <p:cNvPicPr/>
          <p:nvPr/>
        </p:nvPicPr>
        <p:blipFill>
          <a:blip r:embed="rId2"/>
          <a:stretch/>
        </p:blipFill>
        <p:spPr>
          <a:xfrm>
            <a:off x="826920" y="2708280"/>
            <a:ext cx="6429600" cy="368928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"/>
          <p:cNvSpPr/>
          <p:nvPr/>
        </p:nvSpPr>
        <p:spPr>
          <a:xfrm>
            <a:off x="823320" y="714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Arial"/>
                <a:ea typeface="华文中宋"/>
              </a:rPr>
              <a:t>粤嵌游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2"/>
          <p:cNvSpPr/>
          <p:nvPr/>
        </p:nvSpPr>
        <p:spPr>
          <a:xfrm>
            <a:off x="823320" y="714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Arial"/>
                <a:ea typeface="华文中宋"/>
              </a:rPr>
              <a:t>粤嵌股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052720" y="1484280"/>
            <a:ext cx="4787640" cy="46990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6"/>
          <p:cNvSpPr/>
          <p:nvPr/>
        </p:nvSpPr>
        <p:spPr>
          <a:xfrm>
            <a:off x="4035960" y="4916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企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404320" y="2852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学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667960" y="2781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社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4118400" y="35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粤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1000080" y="2932200"/>
            <a:ext cx="6429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54a8"/>
                </a:solidFill>
                <a:latin typeface="Arial"/>
              </a:rPr>
              <a:t>2012 </a:t>
            </a:r>
            <a:r>
              <a:rPr b="1" lang="zh-CN" sz="4000" spc="-1" strike="noStrike">
                <a:solidFill>
                  <a:srgbClr val="0054a8"/>
                </a:solidFill>
                <a:latin typeface="Arial"/>
              </a:rPr>
              <a:t>年“粤嵌”杯广东省大学生嵌入式物联网设计大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826920" y="4300560"/>
            <a:ext cx="7429680" cy="11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比赛时间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主办单位：广东省计算机学会单片机分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3"/>
          <p:cNvSpPr/>
          <p:nvPr/>
        </p:nvSpPr>
        <p:spPr>
          <a:xfrm>
            <a:off x="948600" y="752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Arial"/>
                <a:ea typeface="华文中宋"/>
              </a:rPr>
              <a:t>电子设计大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Box 1"/>
          <p:cNvSpPr/>
          <p:nvPr/>
        </p:nvSpPr>
        <p:spPr>
          <a:xfrm>
            <a:off x="250920" y="2606760"/>
            <a:ext cx="871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1d0957"/>
                </a:solidFill>
                <a:latin typeface="华文新魏"/>
                <a:ea typeface="华文新魏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642960" y="1643040"/>
            <a:ext cx="7561080" cy="33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欢迎参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嵌入式技术与物联网研讨会</a:t>
            </a:r>
            <a:r>
              <a:rPr b="0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611280" y="1557360"/>
            <a:ext cx="65926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专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技术产品研发机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教育服务机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"/>
          <p:cNvSpPr/>
          <p:nvPr/>
        </p:nvSpPr>
        <p:spPr>
          <a:xfrm>
            <a:off x="731880" y="7142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Arial"/>
                <a:ea typeface="华文中宋"/>
              </a:rPr>
              <a:t>粤嵌是什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aa2"/>
          <p:cNvPicPr/>
          <p:nvPr/>
        </p:nvPicPr>
        <p:blipFill>
          <a:blip r:embed="rId2"/>
          <a:stretch/>
        </p:blipFill>
        <p:spPr>
          <a:xfrm>
            <a:off x="4716360" y="3860640"/>
            <a:ext cx="37386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1"/>
          <p:cNvSpPr/>
          <p:nvPr/>
        </p:nvSpPr>
        <p:spPr>
          <a:xfrm>
            <a:off x="466560" y="1558800"/>
            <a:ext cx="792180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00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成立于广州科学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微软嵌入式培训金牌合作伙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R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国授权培训认证中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SO900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质量管理体系认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00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全面进入物联网行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双软企业认定，高新技术企业认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01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获取嵌入式人才服务特别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823320" y="714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Arial"/>
                <a:ea typeface="华文中宋"/>
              </a:rPr>
              <a:t>粤嵌事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8"/>
          <p:cNvSpPr/>
          <p:nvPr/>
        </p:nvSpPr>
        <p:spPr>
          <a:xfrm>
            <a:off x="5313600" y="2173320"/>
            <a:ext cx="1433160" cy="611640"/>
          </a:xfrm>
          <a:prstGeom prst="rect">
            <a:avLst/>
          </a:prstGeom>
          <a:solidFill>
            <a:srgbClr val="5c7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粤嵌教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2141640" y="4224240"/>
            <a:ext cx="1217160" cy="611640"/>
          </a:xfrm>
          <a:prstGeom prst="rect">
            <a:avLst/>
          </a:prstGeom>
          <a:solidFill>
            <a:srgbClr val="686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粤嵌医疗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5427720" y="4241880"/>
            <a:ext cx="1217160" cy="611640"/>
          </a:xfrm>
          <a:prstGeom prst="rect">
            <a:avLst/>
          </a:prstGeom>
          <a:solidFill>
            <a:srgbClr val="695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粤嵌游戏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2118600" y="2173320"/>
            <a:ext cx="1433160" cy="611640"/>
          </a:xfrm>
          <a:prstGeom prst="rect">
            <a:avLst/>
          </a:prstGeom>
          <a:solidFill>
            <a:srgbClr val="005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粤嵌教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C:\Documents and Settings\Administrator\桌面\未标题-1.jpg"/>
          <p:cNvPicPr/>
          <p:nvPr/>
        </p:nvPicPr>
        <p:blipFill>
          <a:blip r:embed="rId2"/>
          <a:stretch/>
        </p:blipFill>
        <p:spPr>
          <a:xfrm>
            <a:off x="3354480" y="3030480"/>
            <a:ext cx="2095560" cy="10717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823320" y="714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Arial"/>
                <a:ea typeface="华文中宋"/>
              </a:rPr>
              <a:t>粤嵌业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8"/>
          <p:cNvSpPr/>
          <p:nvPr/>
        </p:nvSpPr>
        <p:spPr>
          <a:xfrm>
            <a:off x="4608000" y="1989000"/>
            <a:ext cx="1476000" cy="611640"/>
          </a:xfrm>
          <a:prstGeom prst="rect">
            <a:avLst/>
          </a:prstGeom>
          <a:solidFill>
            <a:srgbClr val="5c74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嵌入式学院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4752000" y="3286080"/>
            <a:ext cx="1735200" cy="611640"/>
          </a:xfrm>
          <a:prstGeom prst="rect">
            <a:avLst/>
          </a:prstGeom>
          <a:solidFill>
            <a:srgbClr val="686a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应用软件学院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4654800" y="4510080"/>
            <a:ext cx="1476000" cy="611640"/>
          </a:xfrm>
          <a:prstGeom prst="rect">
            <a:avLst/>
          </a:prstGeom>
          <a:solidFill>
            <a:srgbClr val="6955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互联网学院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1283760" y="3286080"/>
            <a:ext cx="1433160" cy="611640"/>
          </a:xfrm>
          <a:prstGeom prst="rect">
            <a:avLst/>
          </a:prstGeom>
          <a:solidFill>
            <a:srgbClr val="005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400" spc="-1" strike="noStrike">
                <a:solidFill>
                  <a:srgbClr val="ffffff"/>
                </a:solidFill>
                <a:latin typeface="Arial"/>
              </a:rPr>
              <a:t>粤嵌教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823320" y="714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Arial"/>
                <a:ea typeface="华文中宋"/>
              </a:rPr>
              <a:t>粤嵌教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7"/>
          <p:cNvSpPr/>
          <p:nvPr/>
        </p:nvSpPr>
        <p:spPr>
          <a:xfrm flipV="1">
            <a:off x="3060720" y="2276640"/>
            <a:ext cx="1079640" cy="129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8"/>
          <p:cNvSpPr/>
          <p:nvPr/>
        </p:nvSpPr>
        <p:spPr>
          <a:xfrm>
            <a:off x="3060720" y="3573360"/>
            <a:ext cx="107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9"/>
          <p:cNvSpPr/>
          <p:nvPr/>
        </p:nvSpPr>
        <p:spPr>
          <a:xfrm>
            <a:off x="3060720" y="3573360"/>
            <a:ext cx="1079640" cy="122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2"/>
          <p:cNvSpPr/>
          <p:nvPr/>
        </p:nvSpPr>
        <p:spPr>
          <a:xfrm>
            <a:off x="823320" y="714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Arial"/>
                <a:ea typeface="华文中宋"/>
              </a:rPr>
              <a:t>粤嵌教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11"/>
          <p:cNvPicPr/>
          <p:nvPr/>
        </p:nvPicPr>
        <p:blipFill>
          <a:blip r:embed="rId2"/>
          <a:stretch/>
        </p:blipFill>
        <p:spPr>
          <a:xfrm>
            <a:off x="539640" y="1773360"/>
            <a:ext cx="3006720" cy="2894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C:\Documents and Settings\Administrator\桌面\zazhi.jpg"/>
          <p:cNvPicPr/>
          <p:nvPr/>
        </p:nvPicPr>
        <p:blipFill>
          <a:blip r:embed="rId3"/>
          <a:stretch/>
        </p:blipFill>
        <p:spPr>
          <a:xfrm>
            <a:off x="4500720" y="1844640"/>
            <a:ext cx="3816360" cy="28749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5453280" y="5157720"/>
            <a:ext cx="196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粤嵌实验室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电子行业杂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297440" y="51516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自主知识产权的专业教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Box 2"/>
          <p:cNvSpPr/>
          <p:nvPr/>
        </p:nvSpPr>
        <p:spPr>
          <a:xfrm>
            <a:off x="844560" y="765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Arial"/>
                <a:ea typeface="华文中宋"/>
              </a:rPr>
              <a:t>粤嵌教育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3348000" y="1989000"/>
            <a:ext cx="57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人次提供专业的技术培训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家企业提供专业的技术内训服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进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场次师资技术培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多家高校进行课程置换合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Object 2" descr=""/>
          <p:cNvPicPr/>
          <p:nvPr/>
        </p:nvPicPr>
        <p:blipFill>
          <a:blip r:embed="rId2"/>
          <a:stretch/>
        </p:blipFill>
        <p:spPr>
          <a:xfrm>
            <a:off x="108000" y="1486080"/>
            <a:ext cx="337644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2"/>
          <p:cNvSpPr/>
          <p:nvPr/>
        </p:nvSpPr>
        <p:spPr>
          <a:xfrm>
            <a:off x="823320" y="714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d0d0d"/>
                </a:solidFill>
                <a:latin typeface="Arial"/>
                <a:ea typeface="华文中宋"/>
              </a:rPr>
              <a:t>粤嵌教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755640" y="1916280"/>
            <a:ext cx="7128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校提供专业技术试验设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企业提供高端技术开发平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企业提供专业的技术解决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4:13:19Z</dcterms:created>
  <dc:creator>Administrator</dc:creator>
  <dc:description/>
  <dc:language>en-US</dc:language>
  <cp:lastModifiedBy>Roger</cp:lastModifiedBy>
  <cp:lastPrinted>1899-12-30T00:00:00Z</cp:lastPrinted>
  <dcterms:modified xsi:type="dcterms:W3CDTF">2012-01-06T09:55:07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